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B58-F2FB-4070-B2FC-9F8E8026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CAD5-5B9F-4CF6-A009-87000D07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628-FE32-47A2-B1D8-28DB7AF3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486-C7BA-4921-942C-8BA0CF69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B55-9A93-49C7-AB0E-ED99D31C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A2AF-8CF3-49CA-9707-2A4FD165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ECFF-E050-4DD5-8763-D8D9AF78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D1F5-8AC4-4AD6-8D07-F9E2B865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820-4031-481A-BC00-F144FFB5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A4B-8620-46F7-AF25-B2E586C5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E85-AC4A-493A-9454-EB467A51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5B2-4161-4425-B9DF-34B8D6E8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C589-91AD-4659-AE67-58ED5D0D4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206007KpoZqsBeQp_ph" descr=""/>
          <p:cNvPicPr/>
          <p:nvPr/>
        </p:nvPicPr>
        <p:blipFill>
          <a:blip r:embed="rId1"/>
          <a:stretch/>
        </p:blipFill>
        <p:spPr>
          <a:xfrm>
            <a:off x="0" y="0"/>
            <a:ext cx="4959360" cy="541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4290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مام كأسك تنحني الرؤو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                                  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خفق القلوب تتمتم الشفا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وتحلم العيون بنورك المضي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مام كأسك نهتف بالدع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ندعو باسمك نحاور السماء فاستجب لنا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55:57Z</dcterms:created>
  <dc:creator>USER</dc:creator>
  <dc:description/>
  <dc:language>en-US</dc:language>
  <cp:lastModifiedBy>USER</cp:lastModifiedBy>
  <dcterms:modified xsi:type="dcterms:W3CDTF">2002-10-30T16:56:17Z</dcterms:modified>
  <cp:revision>1</cp:revision>
  <dc:subject/>
  <dc:title>PowerPoint Presentation</dc:title>
</cp:coreProperties>
</file>